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3532-A674-445E-8A34-E490227E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90B5-E0E6-4A46-83EC-2C26757F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8371-1FFA-4C3D-BEEF-32F5BEA3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D50A-5945-4AE6-83F0-41C7D317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1C1D0-27F4-4111-A03B-602B353E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FF21C-8FEF-44F5-8580-1F70BD97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4A8E4-D246-4E4F-8076-2AD1E855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CF9D5-CD46-4623-B9F3-DFD130BD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D440F-5C86-43CE-BC66-F5AFB162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40F9A-9E96-4742-930A-553278DC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1BAAB-A71B-4299-96B2-5668F765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15C8-2617-4637-9A40-3D25D6CE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242DD-A013-4C16-8446-9546BF30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D6FA3-84C4-4F15-A15F-E1F3CD09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4FAF3-46F4-4211-9861-25678913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981D2-0701-456C-BFBD-C561CA54B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5219E-0CA2-48BF-8578-D62ADEC9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1856D-2AAA-4AD7-84DC-2022FDA1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12E42-136C-4E17-945A-538AD44F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4EB61-BABA-4564-928A-2AA97DD7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5BD8F-ABE0-40E6-BB1E-25562575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40503-B30D-4360-A779-783755E6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DCBF-66A4-4F66-A5A2-4BABAEEF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0F2D9-B835-4EEA-9857-128C3AED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BF223-D145-4823-A974-D682693D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64169-40F9-4D8A-825E-FE39CBE6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293D6-3B0F-477A-B293-D028E0E7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DF1F1-436D-4B62-8D81-A2599187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689BE-FF8E-44F7-9624-17DCAB47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7E86A-2358-4632-B917-58DF110A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38809-3ECB-44F1-833B-1521C396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128A7-637E-41D7-AA88-EC6C4C4C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B832C-C082-4C2A-8EB9-09AD37E4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8544-28DD-49DD-ADC6-3A58BF2B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E2B7A-C9C0-4FF6-8AAE-1AC4C202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4BD56-EBC9-4591-8AF3-317BB6B1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D4FA4-D860-428E-AD30-51FF431E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D5D48-D26F-4722-A4B9-3F225BE2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7C4F8-7572-47B2-BCCA-BC7F1AF8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C77A1-B483-4430-B4C0-6CC85C3A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B39CE-0592-44AF-8363-3DF861F5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A86F3-F27F-4A56-94F0-EC930098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BF80F-DF0B-4761-A02A-06D8BE57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AFA73-325E-41F6-A7EA-658A3963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DB12-EF05-4243-9115-59C8C539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D8A9F-699F-4429-B566-BE102514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B1101-3581-456E-9BEC-526FEC37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79FAC-8D7E-4F6B-AB68-8237E35A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6D36E-317F-49E7-B880-E7CC213C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77DD8-9229-4DC8-B469-C78A3DA7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54002-D5E2-476C-81C1-9DC2C113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79CD0-7D33-48A9-B022-13C7B8C3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45104-A077-42AF-B9E4-E17508FE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3C7FE-C249-415F-A00F-4CDD0110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72743-7D86-4459-95DA-E0FFB57A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4A97-499D-410D-997C-1A007526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E9334-C1CA-42DD-AB60-0690EA11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CB37-42BF-438D-B4ED-0A3CF130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4F83-7F5B-4F91-A00F-21D4B9C4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4B58-1DCA-4E7A-AF70-CEBCF926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2079-0E2F-47B4-A0C9-38D291068C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2DA3-A335-4591-8AA1-5E70A47912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ftr" idx="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7DFF-AF6C-4F14-98B8-CC81E436C3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F973-FBFB-4945-95E1-DB4CF2C4E05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1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</p:grpSp>
          <p:sp>
            <p:nvSpPr>
              <p:cNvPr id="185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</p:grpSp>
        </p:grpSp>
      </p:grpSp>
      <p:grpSp>
        <p:nvGrpSpPr>
          <p:cNvPr id="197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98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01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02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04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</p:grpSp>
        </p:grpSp>
        <p:sp>
          <p:nvSpPr>
            <p:cNvPr id="212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6886-22FA-4FD6-A8A9-BFD3CDF761E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55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59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65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69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sp>
        <p:nvSpPr>
          <p:cNvPr id="274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Intro to organic chemistry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85800" y="3225960"/>
            <a:ext cx="463248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CH4U – Unit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ree parts to organic chemistry nomenclatur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Prefix: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indicates number, type and location of branches and/or functional groups (if any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Root: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indicates the number of carbon atoms in the main (parent) chai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Suffix: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indicates the number and location of double or triple bonds (if any) and/or highest priority functional group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Let’s draw alkanes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raw all ten basic alkanes and name them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kyl groups and branch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ach branch of a hydrocarbon is referred to as an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alkyl group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if it contains only C and H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kyl groups use the same basic roots as alka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kyls always end in “~yl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so contain a number and hyphen in front to indicate location on the main carbon cha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xample: 2-methyl pentan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5003640" y="5013360"/>
            <a:ext cx="32911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kyl groups and branch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d the longest carbon chain and assign sequential numbers to each carb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ssign these numbers temporarily starting from both ends of the carbon chai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Ultimately will select only one set of numbers to us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goal is to use the numbering along the carbon chain that gives the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lowes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values assigned to branch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kyl groups and branch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t’s try some!  Draw 3-ethyl octane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258920" y="3141720"/>
            <a:ext cx="561672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kyl groups and branch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119160" y="2637000"/>
            <a:ext cx="891684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kyl groups and branch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en there is more than one branch, they are listed in front of the root and suffix according to alphabetical order of the name of the alkyl grou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y naming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4-ethyl 3-methyl hepta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3564000" y="3789360"/>
            <a:ext cx="45133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kyl groups and branch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there is more than one of any given alkyl grou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dicate all the number for the positions using commas to separate the numbers, an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Use prefixes (on the prefixes – confused yet?) to indicate the number pres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kyl groups and branch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y naming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5,6-diethyl-3,3,4-trimethyl nona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100160" y="2205000"/>
            <a:ext cx="73310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rganic Compound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rganic chemistry: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hemistry of carbon compou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xceptions are oxides of carbon (CO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and CO), carbonates, bicarbonates, and cyanides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bon atoms are generally bonded to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ach othe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ydrogen atom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Other specific elements (O, N, S, P and others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y study organic chemistry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05160" indent="-49896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fe is carbon-based.  Everyone is made up of organic compounds.  There are more known carbon compounds than any other elemen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5160" indent="-49896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re are several million known organic compounds with ~30,000 more being “discovered” each yea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5160" indent="-49896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me common organic compounds include plastics, synthetic and natural fibres, dyes, drugs, pesticides, lighter fluid, and gasolin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he carbon atom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bon has four valence electrons allowing it to form four bonds with other atoms by sharing its electr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his results in a </a:t>
            </a:r>
            <a:r>
              <a:rPr b="1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tetrahedral shap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bon forms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covalent bond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sharing of electrons) with carbon ato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assifica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nce organic compounds are composed almost entirely of carbon, they are sometimes referred to as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hydrocarb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ydrocarbons can be divided into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06840" indent="-50400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liphatics: carbon atoms in an open chain structure; may have branches, but no ring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06840" indent="-50400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licyclics: carbon atoms arranged in a ring structur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06840" indent="-50400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romatics: structures related to benzene (C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6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6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assifica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iphatics can be further categorized into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2556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lkanes: contains only single bonds (saturated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2556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lkenes: contains at least one double bond (unsaturated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2556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lkynes: contains at least on triple bon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iagrams &amp; formula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number of different (but related) diagrams used to express structures in organic chemistry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mpirical molecular formula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xpanded molecular formula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omplete structural formula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ondensed structural formula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Line structural formula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3D structural formula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kan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457200" y="2249640"/>
          <a:ext cx="8229600" cy="39877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Arial"/>
                        </a:rPr>
                        <a:t># of carb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Arial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Arial"/>
                        </a:rPr>
                        <a:t># of carb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Arial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Meth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Hex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Eth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Hept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Prop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Oct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But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Non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Pent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Dec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kan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nly single bonds present in the main cha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eneral formula i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n+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m a tetrahedral shap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ote: more on shapes in the next uni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eate a 109.5° angle between bo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idered “saturated” because no other hydrogen atoms can be add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ways end in “~ane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09:49:02Z</dcterms:created>
  <dc:creator>C. Shopman</dc:creator>
  <dc:description/>
  <dc:language>en-US</dc:language>
  <cp:lastModifiedBy>C363966</cp:lastModifiedBy>
  <dcterms:modified xsi:type="dcterms:W3CDTF">2017-09-09T00:23:23Z</dcterms:modified>
  <cp:revision>57</cp:revision>
  <dc:subject/>
  <dc:title>Intro to organic chemistry (orgo)</dc:title>
</cp:coreProperties>
</file>